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61880" y="1109520"/>
            <a:ext cx="1049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圆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95264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扇 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1319040" y="120348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9480" y="3716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25440" y="2220840"/>
            <a:ext cx="5905440" cy="4317840"/>
            <a:chOff x="1225440" y="2220840"/>
            <a:chExt cx="5905440" cy="4317840"/>
          </a:xfrm>
        </p:grpSpPr>
        <p:grpSp>
          <p:nvGrpSpPr>
            <p:cNvPr id="171" name=""/>
            <p:cNvGrpSpPr/>
            <p:nvPr/>
          </p:nvGrpSpPr>
          <p:grpSpPr>
            <a:xfrm>
              <a:off x="1225440" y="2220840"/>
              <a:ext cx="5905440" cy="4317840"/>
              <a:chOff x="1225440" y="2220840"/>
              <a:chExt cx="5905440" cy="43178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25440" y="2220840"/>
                <a:ext cx="5905440" cy="43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935080" y="5468760"/>
                <a:ext cx="3672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41720" y="54435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036600" y="2941200"/>
                <a:ext cx="743040" cy="405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568600" y="3365640"/>
                <a:ext cx="453600" cy="714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87640" y="333036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514520" y="26524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8560" y="46688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2652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60760" y="46688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33480" y="30114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7240" y="333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3800" y="53877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65680" y="5435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19"/>
          <p:cNvSpPr/>
          <p:nvPr/>
        </p:nvSpPr>
        <p:spPr>
          <a:xfrm>
            <a:off x="684360" y="15573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各图中的实线围成的图形是扇形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71680" y="35712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403280" y="27162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4327560" y="46846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6200" y="332424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11840" y="33591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40280" y="543708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35440" y="54705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00000" y="273528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六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～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71680" y="35712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87280" y="2349360"/>
            <a:ext cx="3519720" cy="3519720"/>
            <a:chOff x="1187280" y="2349360"/>
            <a:chExt cx="3519720" cy="3519720"/>
          </a:xfrm>
        </p:grpSpPr>
        <p:sp>
          <p:nvSpPr>
            <p:cNvPr id="44" name="椭圆 2"/>
            <p:cNvSpPr/>
            <p:nvPr/>
          </p:nvSpPr>
          <p:spPr>
            <a:xfrm>
              <a:off x="1187280" y="2349360"/>
              <a:ext cx="3519720" cy="3519720"/>
            </a:xfrm>
            <a:prstGeom prst="ellipse">
              <a:avLst/>
            </a:prstGeom>
            <a:noFill/>
            <a:ln w="572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3"/>
            <p:cNvSpPr/>
            <p:nvPr/>
          </p:nvSpPr>
          <p:spPr>
            <a:xfrm>
              <a:off x="2944440" y="4109400"/>
              <a:ext cx="37080" cy="37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4"/>
          <p:cNvSpPr/>
          <p:nvPr/>
        </p:nvSpPr>
        <p:spPr>
          <a:xfrm>
            <a:off x="2890800" y="3575160"/>
            <a:ext cx="274680" cy="459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5"/>
          <p:cNvSpPr/>
          <p:nvPr/>
        </p:nvSpPr>
        <p:spPr>
          <a:xfrm flipV="1">
            <a:off x="2981160" y="4076280"/>
            <a:ext cx="1725840" cy="46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3780000" y="3573360"/>
            <a:ext cx="293400" cy="5205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7"/>
          <p:cNvSpPr/>
          <p:nvPr/>
        </p:nvSpPr>
        <p:spPr>
          <a:xfrm>
            <a:off x="1719360" y="2865600"/>
            <a:ext cx="2487600" cy="24876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124000" y="3625920"/>
            <a:ext cx="293760" cy="5205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"/>
          <p:cNvSpPr/>
          <p:nvPr/>
        </p:nvSpPr>
        <p:spPr>
          <a:xfrm>
            <a:off x="2916360" y="406080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35280" y="1557360"/>
            <a:ext cx="4910040" cy="1279440"/>
            <a:chOff x="3635280" y="1557360"/>
            <a:chExt cx="4910040" cy="1279440"/>
          </a:xfrm>
        </p:grpSpPr>
        <p:pic>
          <p:nvPicPr>
            <p:cNvPr id="54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021440" y="1557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27"/>
            <p:cNvSpPr/>
            <p:nvPr/>
          </p:nvSpPr>
          <p:spPr>
            <a:xfrm>
              <a:off x="3635280" y="1701720"/>
              <a:ext cx="3354480" cy="936720"/>
            </a:xfrm>
            <a:prstGeom prst="wedgeRoundRectCallout">
              <a:avLst>
                <a:gd name="adj1" fmla="val 56388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指出这个圆的圆心、半径和直径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36920" y="2421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71680" y="1928880"/>
            <a:ext cx="78850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个底面是圆形的蒙古包，沿地面量得周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.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它的占地面积是多少平方米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103560" y="2743200"/>
            <a:ext cx="278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.12÷3.1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094200" y="4170240"/>
            <a:ext cx="493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它的占地面积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0.2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3275280" y="3165480"/>
            <a:ext cx="154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÷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321720" y="3595680"/>
            <a:ext cx="247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14×4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.2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3249720" cy="179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3716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5480" y="3932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919840" y="1628640"/>
            <a:ext cx="1820880" cy="161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1608120" cy="179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11440" y="1628640"/>
            <a:ext cx="15940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24000" y="3573360"/>
            <a:ext cx="3743280" cy="1279440"/>
            <a:chOff x="324000" y="3573360"/>
            <a:chExt cx="3743280" cy="1279440"/>
          </a:xfrm>
        </p:grpSpPr>
        <p:pic>
          <p:nvPicPr>
            <p:cNvPr id="72" name="Picture 19" descr="女天使副本"/>
            <p:cNvPicPr/>
            <p:nvPr/>
          </p:nvPicPr>
          <p:blipFill>
            <a:blip r:embed="rId5"/>
            <a:stretch/>
          </p:blipFill>
          <p:spPr>
            <a:xfrm>
              <a:off x="324000" y="3573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27"/>
            <p:cNvSpPr/>
            <p:nvPr/>
          </p:nvSpPr>
          <p:spPr>
            <a:xfrm>
              <a:off x="1981440" y="3862440"/>
              <a:ext cx="2085840" cy="574560"/>
            </a:xfrm>
            <a:prstGeom prst="wedgeRoundRectCallout">
              <a:avLst>
                <a:gd name="adj1" fmla="val -62708"/>
                <a:gd name="adj2" fmla="val 5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什么是扇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238640" y="3716280"/>
            <a:ext cx="4941720" cy="1798560"/>
            <a:chOff x="4238640" y="3716280"/>
            <a:chExt cx="4941720" cy="1798560"/>
          </a:xfrm>
        </p:grpSpPr>
        <p:sp>
          <p:nvSpPr>
            <p:cNvPr id="75" name="AutoShape 27"/>
            <p:cNvSpPr/>
            <p:nvPr/>
          </p:nvSpPr>
          <p:spPr>
            <a:xfrm>
              <a:off x="4238640" y="3859200"/>
              <a:ext cx="3130560" cy="938160"/>
            </a:xfrm>
            <a:prstGeom prst="wedgeRoundRectCallout">
              <a:avLst>
                <a:gd name="adj1" fmla="val 56847"/>
                <a:gd name="adj2" fmla="val -1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这些物体的外形有什么相同的地方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7550280" y="3716280"/>
              <a:ext cx="163008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"/>
          <p:cNvGrpSpPr/>
          <p:nvPr/>
        </p:nvGrpSpPr>
        <p:grpSpPr>
          <a:xfrm>
            <a:off x="539640" y="4869000"/>
            <a:ext cx="4680000" cy="1800000"/>
            <a:chOff x="539640" y="4869000"/>
            <a:chExt cx="4680000" cy="1800000"/>
          </a:xfrm>
        </p:grpSpPr>
        <p:sp>
          <p:nvSpPr>
            <p:cNvPr id="78" name="AutoShape 27"/>
            <p:cNvSpPr/>
            <p:nvPr/>
          </p:nvSpPr>
          <p:spPr>
            <a:xfrm>
              <a:off x="1850760" y="4869000"/>
              <a:ext cx="3368880" cy="576000"/>
            </a:xfrm>
            <a:prstGeom prst="wedgeRoundRectCallout">
              <a:avLst>
                <a:gd name="adj1" fmla="val -57587"/>
                <a:gd name="adj2" fmla="val 546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它们的外形都是扇形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539640" y="486900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210348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弧形 29"/>
          <p:cNvSpPr/>
          <p:nvPr/>
        </p:nvSpPr>
        <p:spPr>
          <a:xfrm>
            <a:off x="585720" y="1800360"/>
            <a:ext cx="4286160" cy="42145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640" y="1763640"/>
            <a:ext cx="4343400" cy="4380120"/>
            <a:chOff x="539640" y="1763640"/>
            <a:chExt cx="4343400" cy="4380120"/>
          </a:xfrm>
        </p:grpSpPr>
        <p:sp>
          <p:nvSpPr>
            <p:cNvPr id="83" name="椭圆 1"/>
            <p:cNvSpPr/>
            <p:nvPr/>
          </p:nvSpPr>
          <p:spPr>
            <a:xfrm>
              <a:off x="539640" y="1763640"/>
              <a:ext cx="4343400" cy="438012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5"/>
            <p:cNvSpPr/>
            <p:nvPr/>
          </p:nvSpPr>
          <p:spPr>
            <a:xfrm>
              <a:off x="2708280" y="3952800"/>
              <a:ext cx="45720" cy="47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2"/>
          <p:cNvSpPr/>
          <p:nvPr/>
        </p:nvSpPr>
        <p:spPr>
          <a:xfrm>
            <a:off x="3828240" y="150012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4685400" y="485784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2406960" y="365112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5"/>
          <p:cNvSpPr/>
          <p:nvPr/>
        </p:nvSpPr>
        <p:spPr>
          <a:xfrm flipV="1">
            <a:off x="2696400" y="2023920"/>
            <a:ext cx="1103400" cy="1911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6"/>
          <p:cNvSpPr/>
          <p:nvPr/>
        </p:nvSpPr>
        <p:spPr>
          <a:xfrm>
            <a:off x="2697120" y="3902040"/>
            <a:ext cx="1871640" cy="12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弧形 4"/>
          <p:cNvSpPr/>
          <p:nvPr/>
        </p:nvSpPr>
        <p:spPr>
          <a:xfrm rot="367200">
            <a:off x="2646360" y="3687480"/>
            <a:ext cx="338040" cy="4046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3143160" y="3500280"/>
            <a:ext cx="71568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圆心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22"/>
          <p:cNvSpPr/>
          <p:nvPr/>
        </p:nvSpPr>
        <p:spPr>
          <a:xfrm>
            <a:off x="3765600" y="2025720"/>
            <a:ext cx="46080" cy="46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 rot="1924200">
            <a:off x="2576160" y="4599720"/>
            <a:ext cx="171432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半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 rot="18053400">
            <a:off x="2061000" y="2693520"/>
            <a:ext cx="171432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半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4756680" y="294804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弧形 26"/>
          <p:cNvSpPr/>
          <p:nvPr/>
        </p:nvSpPr>
        <p:spPr>
          <a:xfrm>
            <a:off x="596880" y="1785960"/>
            <a:ext cx="4286160" cy="4357800"/>
          </a:xfrm>
          <a:prstGeom prst="pi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1"/>
          <p:cNvSpPr/>
          <p:nvPr/>
        </p:nvSpPr>
        <p:spPr>
          <a:xfrm flipH="1">
            <a:off x="2711520" y="3862440"/>
            <a:ext cx="46080" cy="666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5076720" y="1700280"/>
            <a:ext cx="3934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图上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点之间的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叫做弧，读作“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5219640" y="2997360"/>
            <a:ext cx="360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一条弧和经过这条弧两端的两条半径所围成的图形叫做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扇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5292720" y="49579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顶点在圆心的角叫做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圆心角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23"/>
          <p:cNvSpPr/>
          <p:nvPr/>
        </p:nvSpPr>
        <p:spPr>
          <a:xfrm>
            <a:off x="4525920" y="5097600"/>
            <a:ext cx="46080" cy="46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42920" y="2205000"/>
            <a:ext cx="6757920" cy="4319640"/>
            <a:chOff x="1042920" y="2205000"/>
            <a:chExt cx="6757920" cy="4319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042920" y="2205000"/>
              <a:ext cx="67579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77800" y="2516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4280" y="4795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68640" y="2563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68640" y="48578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92400" y="3025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93920" y="5156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41840" y="3030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2480" y="5084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900000" y="1557360"/>
            <a:ext cx="52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下面各图中，哪些角是圆心角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370160" y="2565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726080" y="49276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59480" y="3241800"/>
            <a:ext cx="3672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97080" y="3255840"/>
            <a:ext cx="3672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97640" y="537372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547524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68360" y="3429000"/>
            <a:ext cx="4938840" cy="1800360"/>
            <a:chOff x="468360" y="3429000"/>
            <a:chExt cx="4938840" cy="1800360"/>
          </a:xfrm>
        </p:grpSpPr>
        <p:sp>
          <p:nvSpPr>
            <p:cNvPr id="123" name="AutoShape 27"/>
            <p:cNvSpPr/>
            <p:nvPr/>
          </p:nvSpPr>
          <p:spPr>
            <a:xfrm>
              <a:off x="1806480" y="3645000"/>
              <a:ext cx="3600720" cy="934920"/>
            </a:xfrm>
            <a:prstGeom prst="wedgeRoundRectCallout">
              <a:avLst>
                <a:gd name="adj1" fmla="val -54981"/>
                <a:gd name="adj2" fmla="val -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在同一个圆中，扇形的大小与什么有关系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8360" y="342900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3348000" y="4653000"/>
            <a:ext cx="5230800" cy="1942560"/>
            <a:chOff x="3348000" y="4653000"/>
            <a:chExt cx="5230800" cy="1942560"/>
          </a:xfrm>
        </p:grpSpPr>
        <p:sp>
          <p:nvSpPr>
            <p:cNvPr id="126" name="AutoShape 27"/>
            <p:cNvSpPr/>
            <p:nvPr/>
          </p:nvSpPr>
          <p:spPr>
            <a:xfrm>
              <a:off x="3348000" y="4653000"/>
              <a:ext cx="3529080" cy="1368000"/>
            </a:xfrm>
            <a:prstGeom prst="wedgeRoundRectCallout">
              <a:avLst>
                <a:gd name="adj1" fmla="val 56972"/>
                <a:gd name="adj2" fmla="val -9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发现在同一个圆中，扇形的大小与这个扇形的圆心角的大小有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6948360" y="4797000"/>
              <a:ext cx="163044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3059280" y="1628280"/>
            <a:ext cx="1627200" cy="1638720"/>
            <a:chOff x="3059280" y="1628280"/>
            <a:chExt cx="1627200" cy="1638720"/>
          </a:xfrm>
        </p:grpSpPr>
        <p:sp>
          <p:nvSpPr>
            <p:cNvPr id="129" name=""/>
            <p:cNvSpPr/>
            <p:nvPr/>
          </p:nvSpPr>
          <p:spPr>
            <a:xfrm>
              <a:off x="3841920" y="2401920"/>
              <a:ext cx="73080" cy="712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059280" y="1628280"/>
              <a:ext cx="1627200" cy="1638720"/>
              <a:chOff x="3059280" y="1628280"/>
              <a:chExt cx="1627200" cy="1638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059280" y="1628280"/>
                <a:ext cx="1627200" cy="1638720"/>
                <a:chOff x="3059280" y="1628280"/>
                <a:chExt cx="1627200" cy="1638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059280" y="1647720"/>
                  <a:ext cx="1619280" cy="16192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859560" y="2449440"/>
                  <a:ext cx="826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3854520" y="1628280"/>
                  <a:ext cx="0" cy="82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3349440" y="2426400"/>
                  <a:ext cx="502920" cy="65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1000" y="2257200"/>
                <a:ext cx="196920" cy="193680"/>
                <a:chOff x="3861000" y="2257200"/>
                <a:chExt cx="196920" cy="1936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861000" y="2258640"/>
                  <a:ext cx="1936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4057920" y="2257200"/>
                  <a:ext cx="0" cy="19368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 rot="18014400">
                <a:off x="3600720" y="2260080"/>
                <a:ext cx="403560" cy="37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6" y="7379"/>
                    </a:moveTo>
                    <a:arcTo wR="10800" hR="10800" stAng="-9692113" swAng="99375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6" y="7379"/>
                    </a:moveTo>
                    <a:arcTo wR="10800" hR="10800" stAng="-9692113" swAng="9937514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9396000">
                <a:off x="3675960" y="2376720"/>
                <a:ext cx="368280" cy="28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87" y="7592"/>
                    </a:moveTo>
                    <a:arcTo wR="10800" hR="10800" stAng="-9763192" swAng="100085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87" y="7592"/>
                    </a:moveTo>
                    <a:arcTo wR="10800" hR="10800" stAng="-9763192" swAng="10008593"/>
                  </a:path>
                </a:pathLst>
              </a:cu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2577960" y="4264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5851440" y="4282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08000" y="2827440"/>
            <a:ext cx="1928880" cy="14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15040" y="2637000"/>
            <a:ext cx="1633320" cy="16207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324000" y="1268280"/>
            <a:ext cx="6913440" cy="1414440"/>
            <a:chOff x="324000" y="1268280"/>
            <a:chExt cx="6913440" cy="1414440"/>
          </a:xfrm>
        </p:grpSpPr>
        <p:pic>
          <p:nvPicPr>
            <p:cNvPr id="147" name="Picture 20" descr="男天使副本"/>
            <p:cNvPicPr/>
            <p:nvPr/>
          </p:nvPicPr>
          <p:blipFill>
            <a:blip r:embed="rId4"/>
            <a:stretch/>
          </p:blipFill>
          <p:spPr>
            <a:xfrm>
              <a:off x="324000" y="1268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2268720" y="1484280"/>
              <a:ext cx="4968720" cy="1181880"/>
              <a:chOff x="2268720" y="1484280"/>
              <a:chExt cx="4968720" cy="1181880"/>
            </a:xfrm>
          </p:grpSpPr>
          <p:sp>
            <p:nvSpPr>
              <p:cNvPr id="149" name="AutoShape 27"/>
              <p:cNvSpPr/>
              <p:nvPr/>
            </p:nvSpPr>
            <p:spPr>
              <a:xfrm>
                <a:off x="2268720" y="1484280"/>
                <a:ext cx="4968720" cy="1152360"/>
              </a:xfrm>
              <a:prstGeom prst="wedgeRoundRectCallout">
                <a:avLst>
                  <a:gd name="adj1" fmla="val -57254"/>
                  <a:gd name="adj2" fmla="val -1666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以半圆为弧的扇形的圆心角是多少度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以   圆为弧的扇形呢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2811600" y="1887480"/>
                <a:ext cx="511200" cy="778680"/>
                <a:chOff x="2811600" y="1887480"/>
                <a:chExt cx="511200" cy="778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818080" y="22431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11600" y="18874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855880" y="230652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185760" y="4724280"/>
            <a:ext cx="4098960" cy="1800360"/>
            <a:chOff x="185760" y="4724280"/>
            <a:chExt cx="4098960" cy="1800360"/>
          </a:xfrm>
        </p:grpSpPr>
        <p:sp>
          <p:nvSpPr>
            <p:cNvPr id="155" name="AutoShape 27"/>
            <p:cNvSpPr/>
            <p:nvPr/>
          </p:nvSpPr>
          <p:spPr>
            <a:xfrm>
              <a:off x="1523880" y="4940280"/>
              <a:ext cx="2760840" cy="934920"/>
            </a:xfrm>
            <a:prstGeom prst="wedgeRoundRectCallout">
              <a:avLst>
                <a:gd name="adj1" fmla="val -56499"/>
                <a:gd name="adj2" fmla="val -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以半圆为弧的扇形的圆心角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185760" y="4724280"/>
              <a:ext cx="112248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4788000" y="4726080"/>
            <a:ext cx="4294080" cy="2087640"/>
            <a:chOff x="4788000" y="4726080"/>
            <a:chExt cx="4294080" cy="2087640"/>
          </a:xfrm>
        </p:grpSpPr>
        <p:sp>
          <p:nvSpPr>
            <p:cNvPr id="158" name="AutoShape 27"/>
            <p:cNvSpPr/>
            <p:nvPr/>
          </p:nvSpPr>
          <p:spPr>
            <a:xfrm>
              <a:off x="4788000" y="4726080"/>
              <a:ext cx="2879640" cy="865080"/>
            </a:xfrm>
            <a:prstGeom prst="wedgeRoundRectCallout">
              <a:avLst>
                <a:gd name="adj1" fmla="val 54245"/>
                <a:gd name="adj2" fmla="val 30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7452000" y="5015160"/>
              <a:ext cx="1630080" cy="17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5075280" y="4726080"/>
              <a:ext cx="2952720" cy="778680"/>
              <a:chOff x="5075280" y="4726080"/>
              <a:chExt cx="2952720" cy="778680"/>
            </a:xfrm>
          </p:grpSpPr>
          <p:sp>
            <p:nvSpPr>
              <p:cNvPr id="161" name=""/>
              <p:cNvSpPr/>
              <p:nvPr/>
            </p:nvSpPr>
            <p:spPr>
              <a:xfrm>
                <a:off x="5075280" y="4942080"/>
                <a:ext cx="295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度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5800680" y="4726080"/>
                <a:ext cx="511200" cy="778680"/>
                <a:chOff x="5800680" y="4726080"/>
                <a:chExt cx="511200" cy="7786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807160" y="50817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00680" y="47260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44960" y="5145120"/>
                  <a:ext cx="252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684360" y="15573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指出下列物体中的扇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71680" y="35712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77760" y="2708280"/>
            <a:ext cx="7288200" cy="2232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3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